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59C-FFBB-407C-B9E1-F074BDE8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4C6-CD9A-4D49-99B0-F3339363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D98-720E-4A7F-A58A-8237B0A5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090-713E-43CE-8DC2-BA6920CF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048-3F72-447F-B91E-20E9364B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9C0-47B8-4AEB-A88B-7E291D60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26A-938A-43E6-99C1-2A73F8B8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6BD-35F7-42C9-90D0-C2657A1F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ED9-6089-4979-8B87-2A54F466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D53-BB6B-4585-9239-91D567A2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16E-DEFA-40DF-B118-87DF0866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A66-DBC3-499C-81EF-E06F70F2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0537-275D-4531-8486-D24FCCE5A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ergarten Frequenc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s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a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a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i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c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lik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u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he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d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w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g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m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se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4:55:02Z</dcterms:created>
  <dc:creator>Patrick Kevane</dc:creator>
  <dc:description/>
  <dc:language>en-US</dc:language>
  <cp:lastModifiedBy>Patrick Kevane</cp:lastModifiedBy>
  <dcterms:modified xsi:type="dcterms:W3CDTF">2011-10-11T15:30:41Z</dcterms:modified>
  <cp:revision>13</cp:revision>
  <dc:subject/>
  <dc:title>High Frequency Words</dc:title>
</cp:coreProperties>
</file>